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3003213" cy="975201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C1EA9-BD85-48B4-94D7-CCD29758EBF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705-2096-4FEB-BEB8-073A3E08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0000" cy="16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82400"/>
            <a:ext cx="117000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235480"/>
            <a:ext cx="117000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3C5-209B-4FFB-B734-B0AF78A3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0000" cy="16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82400"/>
            <a:ext cx="57092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5960" y="2282400"/>
            <a:ext cx="57092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235480"/>
            <a:ext cx="57092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5960" y="5235480"/>
            <a:ext cx="57092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488-B618-4058-BD18-60919A11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0000" cy="16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82400"/>
            <a:ext cx="37670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6560" y="2282400"/>
            <a:ext cx="37670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2600" y="2282400"/>
            <a:ext cx="37670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235480"/>
            <a:ext cx="37670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6560" y="5235480"/>
            <a:ext cx="37670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2600" y="5235480"/>
            <a:ext cx="37670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3EC-58A4-44B2-8A37-40CE8C51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0000" cy="16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82400"/>
            <a:ext cx="117000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92E-68A5-461C-9665-05A100D9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0000" cy="16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82400"/>
            <a:ext cx="117000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18A-7327-4D0B-BE69-CC9980F7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0000" cy="16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82400"/>
            <a:ext cx="570924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5960" y="2282400"/>
            <a:ext cx="570924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81B-6B55-4D16-9B03-7539DFB7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0000" cy="16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466-ABB9-4BFF-827C-B42F7E1A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88800"/>
            <a:ext cx="11700000" cy="75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896-6736-4D71-93A5-1B4A1691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0000" cy="16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82400"/>
            <a:ext cx="57092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5960" y="2282400"/>
            <a:ext cx="570924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235480"/>
            <a:ext cx="57092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0B3-2D66-412B-BD40-584D2BEB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0000" cy="16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82400"/>
            <a:ext cx="570924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5960" y="2282400"/>
            <a:ext cx="57092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5960" y="5235480"/>
            <a:ext cx="57092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63D-CD24-4F13-B6A7-416282CB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0000" cy="16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82400"/>
            <a:ext cx="57092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5960" y="2282400"/>
            <a:ext cx="57092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235480"/>
            <a:ext cx="117000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756-2DD0-4B86-AF11-A9E31247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88800"/>
            <a:ext cx="11700000" cy="16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82400"/>
            <a:ext cx="117000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3360"/>
            <a:ext cx="30258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6720" y="8883360"/>
            <a:ext cx="411768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22920" y="8883360"/>
            <a:ext cx="30258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4C246-0C60-43D7-8E65-8794583931B6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13003200" cy="9751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17600" y="3276720"/>
            <a:ext cx="8568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Título da Apresent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72000" y="5075280"/>
            <a:ext cx="590364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ome do 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rgo do 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ata e/ou con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2160" y="1654200"/>
            <a:ext cx="8567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Título do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2240" y="2806560"/>
            <a:ext cx="1016604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420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6600"/>
                </a:solidFill>
                <a:latin typeface="Arial"/>
              </a:rPr>
              <a:t>Preferencialmente, utilize texto simples, objetivo e o mais sintético possí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4560">
              <a:lnSpc>
                <a:spcPct val="107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0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6600"/>
                </a:solidFill>
                <a:latin typeface="Arial"/>
              </a:rPr>
              <a:t>As imagens utilizadas devem estar com resolução de 72dpi e no modo RG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6T12:39:22Z</dcterms:created>
  <dc:creator/>
  <dc:description/>
  <dc:language>en-US</dc:language>
  <cp:lastModifiedBy/>
  <dcterms:modified xsi:type="dcterms:W3CDTF">2015-12-15T12:01:29Z</dcterms:modified>
  <cp:revision>2</cp:revision>
  <dc:subject/>
  <dc:title/>
</cp:coreProperties>
</file>